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BC7-7FED-4D6F-AFB4-D889AA9D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A77-7D58-4D67-8631-BA2EB21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6C8-1DF7-4412-AF72-4E668E63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C27-49B4-43F9-81FB-0D583FA7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67A-41E6-4CE9-8B99-E3430E7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77F-2494-44CC-817C-19DB6026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EA0-25E7-466A-AF3B-95A798E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56E-55B9-4CE0-AFE1-E200C42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981-5B65-40E2-B0A7-4811B84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87C-CFC7-434C-892A-680E7202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34B-46FF-4A4D-A746-AD1E04D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954-D40F-4E1C-95B0-74A1AF4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30A-BC04-4AEB-85DC-E6B8B363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8560" y="977760"/>
            <a:ext cx="7602480" cy="4977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7589880" cy="497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733840"/>
            <a:ext cx="9144000" cy="141912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Предварительные итоги реализации в Республике  Татарстан приоритетного  национального  проекта  «Здоровье» и его перспективы в 2008 год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5950080"/>
            <a:ext cx="2843280" cy="91692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чальник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чества медицинской помощи Р.Ф. Батыр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6157800"/>
            <a:ext cx="3313080" cy="368280"/>
          </a:xfrm>
          <a:prstGeom prst="rect">
            <a:avLst/>
          </a:prstGeom>
          <a:solidFill>
            <a:srgbClr val="f3e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зань, 18 декабря 200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5B9-3A9D-4DD9-B342-87D64C9A5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15920"/>
            <a:ext cx="9144000" cy="86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хват иммунизацией населения за 2006 – 11 месяцев 2007 года (в % от подлежа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86400"/>
            <a:ext cx="91440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чены вакцины против гепатита В, краснухи, полиомиелита и гриппа на сумму  боле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8 млн. рублей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(83% от пл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440" y="1270080"/>
          <a:ext cx="8967960" cy="391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1270080"/>
                    <a:ext cx="896796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6BA-881E-4112-9B19-0B2E2CE659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Выполнение плана дополнительной </a:t>
            </a:r>
            <a:br>
              <a:rPr sz="3000"/>
            </a:b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иммунизации населения состави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280" y="1163520"/>
            <a:ext cx="896472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 вирусному гепатиту  В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100%,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99,7%,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62,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 краснух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92,3%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 полиомиелиту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100%,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100%,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97,2%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 гриппу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74,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тставание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от плана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иммунизации сохраняется в районах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Алькеевский, Альметьевский, Елабужский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(гепатит В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укморский, К-Устьинский, Менделеевский, Тукаевский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(гепатит В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-Горский, Пестречинский, Буинский, Апастовский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(краснух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Нижнекамский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(полиомиелит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Елабужский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(грипп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45A-021D-47A5-A23B-40244E03A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15920"/>
            <a:ext cx="9144000" cy="86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рофилактика, выявление и лечение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больных ВИЧ-инфекцией, гепатитами В 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280" y="1197000"/>
            <a:ext cx="896472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Получены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антиретровирусные препараты, препараты для лечения гепатитов и тест-системы на сумму более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595 млн.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рубле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Увеличение финансирования по сравнению с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2006 годом почти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в 10 раз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достигнуто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за счет сверхпланового получения препаратов и тест-систем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з федерального резерва в начале 2007 год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Проведено более 1 млн.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следований на ВИЧ-инфекцию и гепатиты В и 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Взято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на антиретровирусную терапию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248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больных ВИЧ-инфекци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66ff"/>
                </a:solidFill>
                <a:latin typeface="Times New Roman"/>
              </a:rPr>
              <a:t>(99% от плана)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 впервые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28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больных гепатитами В и С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032-F8E4-449E-A76C-E03CBE393A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" y="115920"/>
            <a:ext cx="9107640" cy="649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одовые сертифик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1052640"/>
            <a:ext cx="896472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В женских консультациях и роддомах выдано  боле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40 тыся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родовых сертифик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олучено для оплаты медицинской помощи, оказанной женщинам в период беременности, родов и послеродовом период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32 млн.  рублей</a:t>
            </a:r>
            <a:br>
              <a:rPr sz="3000"/>
            </a:b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(92% от прогноз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Впервые более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0 млн. рублей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еречислено в детские поликлиники для оплаты медицинской помощи, оказанной детям в возрасте до года по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талонам №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1A4-7360-4C07-B73E-7BF12AA28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455616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80" y="973080"/>
            <a:ext cx="89647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инансирование неонатального скрининга составило боле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лн. рубл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98% от пла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следованы на галактоземию, муковисцидоз и адреногенитальный синдром боле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8 тыся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новорожденных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95% от прогноза 2007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явлено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скрининг- положительных детей, у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подтвержден диагноз – муковисцидоз, у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адреногенитальны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920"/>
            <a:ext cx="9144000" cy="86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Неонатальный скринин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F6E-6091-4A41-A288-D8AFD21E35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8000" y="1359000"/>
            <a:ext cx="88916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2007 году в условиях санаториев и курортов получили лечени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 885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ременных женщин групп риска на сумму боле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5 млн. рублей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100% от прогно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2006-2007 годы санаторно-курортное лечение и оздоровление получили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 588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ременных женщин групп риска на сумму свыш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2 млн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5920"/>
            <a:ext cx="9144000" cy="86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Санаторно-курортное лечение</a:t>
            </a:r>
            <a:br>
              <a:rPr sz="3000"/>
            </a:b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и оздоровление беременных женщин групп ри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718-22B4-4116-898F-36FF07F858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920" y="1220760"/>
            <a:ext cx="90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17.12.2007 г. по оперативным данным дополнительную диспансеризацию прошли около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30 тысяч человек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работающих в учреждениях шести бюджетных сфер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91% от уточненного пла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160"/>
            <a:ext cx="9144000" cy="861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полнительная диспансеризация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работников шести бюджетных сф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929040"/>
            <a:ext cx="91440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ибольшее отставани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от пла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диспансеризации сохра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Муслюмовском рай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г. Набережные Че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C9C-BC7B-48AA-802B-D9465A7037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7360"/>
            <a:ext cx="9144000" cy="1150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Углубленные медицинские осмотры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работающих в отраслях с вредными и (или) опасными производственными факто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55736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17.12.2007 г. по оперативным данны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нздрава Р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глубленные медицинские осмотры прошли свыш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5 тыся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работников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92,5% от пла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789360"/>
            <a:ext cx="914400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ибольшее отставание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т пла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осмотров сохра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рлатском рай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г. Каз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г. Бугул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F97-3CAC-44DD-8B90-64B453BFA1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7360"/>
            <a:ext cx="9144000" cy="64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казание высокотехнологичн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8920"/>
            <a:ext cx="91090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За 2006 - 11 месяцев 2007  года в федеральные центры для оказания высокотехнологичной медицинской помощи было направлено более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 тысяч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жителей республики с ориентировочной суммой их обследования и лечения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40 млн. руб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2007 году федеральных центрах обследовано и пролечено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 659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циентов жителей Татарстана на ориентировочную сумму более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76 млн. рубле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ff"/>
                </a:solidFill>
                <a:latin typeface="Times New Roman"/>
              </a:rPr>
              <a:t>(129% от прогно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6900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первые по государственному заданию в РКБ, МКДЦ, ДРКБ и НИЦТ «ВТО» оказана высокотехнологичной медицинской помощи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 10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жителям Татарстана, Республик Чувашия и Марий Э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586-CDF5-4D82-80B6-AAF26339C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7640" y="1413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информации министра здравоохранения и социального развития России Голиковой Т.А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 2008 год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 проекту «Здоровье» прибавится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ва новых направления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связанных с Концепцией демографического развития Росси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5920"/>
            <a:ext cx="9144000" cy="692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Новые направления проекта «Здоровье» 2008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9C9-6F52-4AE4-8589-4027D08C2D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724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13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6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18 декабр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7 года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проекту «Здоровье» Республика Татарстан получила из федерального бюджета субвенций, субсидий, диагностического оборудования, санитарного транспорта, медицинских услуг,  лекарственных и иммунобиологических препаратов, тест-систем, расходных материал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 млрд. 555 млн. рублей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88% от прогноз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н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8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больше финансирования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DDC-18E8-4735-8E53-E439FCCE171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76280"/>
            <a:ext cx="914400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ctr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 нов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«Профилактика сердечно-сосудистых заболев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еспублика Татарстан включена в перечень субъектов, организуемых региональные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центры сосудистой хирурги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для лечения больных сердечно-сосудистыми заболеваниями и с острыми нарушениями мозгового кровообращ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ланируется организация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двух региональных центр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(Казань, Набережные Челны) и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шести первичных отделений – филиалов центр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(Альметьевск, Арск, Буинск, Нижнекамск, Нурлаты, Чистопол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ланиру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оснащение центр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компьютерными томографами, операционными для нейрохирургических и сосудистых операций, ангиографами, ультразвуковыми комплекс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080"/>
            <a:ext cx="9144000" cy="503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Новые направления проекта «Здоровье» 2008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53D-EC58-453A-9FF8-1D0DADC71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10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Профилактика сердечно-сосудист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5920"/>
            <a:ext cx="914400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Новые направления проекта «Здоровье» 2008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839880"/>
            <a:ext cx="9396360" cy="5901840"/>
            <a:chOff x="0" y="839880"/>
            <a:chExt cx="9396360" cy="590184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214920" y="950760"/>
              <a:ext cx="8438760" cy="55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225160" y="2428560"/>
              <a:ext cx="423000" cy="436320"/>
            </a:xfrm>
            <a:prstGeom prst="star5">
              <a:avLst/>
            </a:prstGeom>
            <a:solidFill>
              <a:srgbClr val="ff00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17680" y="2707560"/>
              <a:ext cx="423000" cy="436680"/>
            </a:xfrm>
            <a:prstGeom prst="star5">
              <a:avLst/>
            </a:prstGeom>
            <a:solidFill>
              <a:srgbClr val="ff00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48720" y="5931720"/>
              <a:ext cx="488160" cy="435240"/>
            </a:xfrm>
            <a:prstGeom prst="star5">
              <a:avLst/>
            </a:prstGeom>
            <a:solidFill>
              <a:srgbClr val="ff6600">
                <a:alpha val="47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8760" y="2008440"/>
              <a:ext cx="173160" cy="1742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160" y="2988720"/>
              <a:ext cx="173880" cy="174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83320" y="4175280"/>
              <a:ext cx="173160" cy="17424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0120" y="4389840"/>
              <a:ext cx="172440" cy="173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3080" y="3549600"/>
              <a:ext cx="173160" cy="17424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83000" y="6560280"/>
              <a:ext cx="173160" cy="17460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59360" y="6149160"/>
              <a:ext cx="258192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Arial"/>
                </a:rPr>
                <a:t>Региональный сосудистый цент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42800" y="6519600"/>
              <a:ext cx="258192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Arial"/>
                </a:rPr>
                <a:t>Отделение для лечения ОНМ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84680" y="4397760"/>
              <a:ext cx="1111680" cy="59292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44893"/>
                <a:gd name="adj5" fmla="val 113425"/>
                <a:gd name="adj6" fmla="val -838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Ютазинский рай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3840" y="5398560"/>
              <a:ext cx="860400" cy="59292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82777"/>
                <a:gd name="adj5" fmla="val -150000"/>
                <a:gd name="adj6" fmla="val 2583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Спас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райо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28560" y="5732280"/>
              <a:ext cx="1111680" cy="59292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83277"/>
                <a:gd name="adj5" fmla="val -150000"/>
                <a:gd name="adj6" fmla="val -16129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Алькеевский рай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6160" y="2673000"/>
              <a:ext cx="75312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Мамады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64200" y="3230280"/>
              <a:ext cx="9680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ижнекам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3619440"/>
              <a:ext cx="5378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За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74880" y="3879000"/>
              <a:ext cx="9680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Сармано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2400" y="3619440"/>
              <a:ext cx="5378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За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99560" y="2605680"/>
              <a:ext cx="67176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Елабу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3560" y="3619440"/>
              <a:ext cx="5378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За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268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11720" y="13957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лта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9360" y="161784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.Ат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0120" y="18403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А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1080" y="18403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укм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1080" y="18403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укм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1080" y="18403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укм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1080" y="18403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укм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1080" y="184032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укм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68040" y="373068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Апастов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4638600"/>
              <a:ext cx="96804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Дрожжа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36440" y="376776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.Усть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020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у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6240" y="428652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етюш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02400" y="3619440"/>
              <a:ext cx="5378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За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04840" y="4286520"/>
              <a:ext cx="7531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.Мата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5600" y="4620240"/>
              <a:ext cx="860400" cy="333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.Мата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57960" y="462024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960" y="473148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Аксубае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6160" y="428652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96160" y="428652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6160" y="42922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6160" y="42922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02400" y="3619440"/>
              <a:ext cx="5378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За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6160" y="42922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96160" y="42922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08640" y="495396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08640" y="495396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08640" y="495396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08640" y="4953960"/>
              <a:ext cx="11833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овошешм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08640" y="4953960"/>
              <a:ext cx="118332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08640" y="4953960"/>
              <a:ext cx="96804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6280" y="4953960"/>
              <a:ext cx="86040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16280" y="4953960"/>
              <a:ext cx="5378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02400" y="3619440"/>
              <a:ext cx="537840" cy="22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За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40240" y="5176080"/>
              <a:ext cx="96804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Лениногорс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4000" y="5176080"/>
              <a:ext cx="96804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Череммш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6280" y="4953960"/>
              <a:ext cx="43020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01000" y="3619440"/>
              <a:ext cx="968040" cy="2221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Муслюмо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87120" y="4731480"/>
              <a:ext cx="118332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Альметьев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70800" y="5398560"/>
              <a:ext cx="75312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угуль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3440" y="5509800"/>
              <a:ext cx="86040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урл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23920" y="4953960"/>
              <a:ext cx="53784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Урусс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08640" y="5621040"/>
              <a:ext cx="64548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авл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73240" y="3730680"/>
              <a:ext cx="860400" cy="333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Чистопол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85720" y="4592520"/>
              <a:ext cx="860400" cy="2221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Азнакае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7880" y="2729880"/>
              <a:ext cx="173160" cy="17460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02400" y="2952360"/>
              <a:ext cx="968040" cy="2221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Наб. Чел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17680" y="2174040"/>
              <a:ext cx="1075680" cy="25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Менделеев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05080" y="2943000"/>
              <a:ext cx="932400" cy="259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Мензелинс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5600" y="2062800"/>
              <a:ext cx="753120" cy="222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.Саб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8480" y="2804040"/>
              <a:ext cx="824760" cy="259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Пестрец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50320" y="2396160"/>
              <a:ext cx="645480" cy="259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юляч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87440" y="1163880"/>
              <a:ext cx="528840" cy="259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Агры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06760" y="2729880"/>
              <a:ext cx="753120" cy="259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Актаны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35400" y="3211560"/>
              <a:ext cx="860400" cy="222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Р.Слоб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26360" y="839880"/>
              <a:ext cx="1004040" cy="59292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09347"/>
                <a:gd name="adj5" fmla="val 368750"/>
                <a:gd name="adj6" fmla="val 1116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Тукаевский райо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35920" y="2285280"/>
              <a:ext cx="591480" cy="259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В.Г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0400" y="2396160"/>
              <a:ext cx="1075680" cy="259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Зеленодольс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13880" y="2952360"/>
              <a:ext cx="591480" cy="259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В.Усло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7000" y="3285720"/>
              <a:ext cx="699120" cy="259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Лаише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7840" y="3396960"/>
              <a:ext cx="753120" cy="22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Кайбиц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81920" y="2729880"/>
              <a:ext cx="173160" cy="174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20120" y="3953160"/>
              <a:ext cx="107568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Алексеев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51720" y="4564800"/>
              <a:ext cx="753120" cy="222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олга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EDC-FFCB-45CC-B49F-E65F18DD9D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492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5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2. По новому направлени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Снижение потерь при ДТП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 Республике Татарстан внедр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5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втоматизированная система приема и передачи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 ДТП между заинтересованными ведом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граммное обучен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пециалистов МЧС, ГИБДД и водителей оказанию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ервой медицинской помощи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Д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 Минздравсоцразвития России направл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5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еречень медицинского оборудования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ключающи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пьютерные томографы, магнитно-резонансное и ультразвуковое оборудовани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и современных реанимобилей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оснащения медицинских учреждений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евя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униципальных образований республик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г. Казань,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. Челны, Бавлинский, Елабужский, Зеленодольский, Мамадышский, Мензелинский,  Пестречинский, Тюлячинский районы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тветственных за федеральные трассы (М-5 и М-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15920"/>
            <a:ext cx="9144000" cy="574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Новые направления проекта «Здоровье» 2008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AAC-FADE-4CD5-8951-3AFB02C633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7640" y="909720"/>
            <a:ext cx="8893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3. Федеральный учебно-образовательный центр ВТМ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мире существует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пять учебно-образовательных центро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по высоким медицинским технолог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роме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Казани (пуск первой очереди в январе 2008 года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планируется открыть УОЦентры в Новосибирске, Москве и Санкт-Петербур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а базе УОЦентра будут проходить обучение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хирурги, нейрохирурги, кардиохирурги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травматологи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казывающие высокотехнологичные виды 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учение специалистов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от двух недель до 6 месяце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планируется проводить на базе 9-го корпуса РК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Финансироваться УОЦентр будет из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федерального бюджета и компанией «Джонсон и Джонсон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15920"/>
            <a:ext cx="9144000" cy="576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Новые направления проекта «Здоровье» 2008 г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4E0-84FF-4475-9890-B2227A86D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661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13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Подготовка и переподготовка врачей общей</a:t>
            </a:r>
            <a:br>
              <a:rPr sz="2600"/>
            </a:b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(семейной) практики, участковых терапевтов и педиат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360" y="1486080"/>
            <a:ext cx="889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Завершено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повышение квалификации и переподготовка специалистов первичного звена.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Обучено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668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врачей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(100% от плана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За 2006 - 2007 годы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по государственному заданию проведено повышение квалификации и первичная специализация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840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врачей первичного зве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BC2-1AE2-4CE0-AB7F-1B54432941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080" y="907920"/>
            <a:ext cx="3058920" cy="216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3429000"/>
            <a:ext cx="8893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 2006-2007 годы по проекту «Здоровье»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194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и по программе модернизации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175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получено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69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единиц санитарного автотранспорта и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анитарных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вертолета, что позволило восстановить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5%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единиц автомобилей, подлежавших списанию по службе скорой медицинской помощ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5920"/>
            <a:ext cx="9144000" cy="719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Оснащение санитарными автомобил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52243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981000"/>
            <a:ext cx="5940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Заверш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получение для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районов и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городов республики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0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санитарных автомобилей на сумму более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6 млн. рубле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Times New Roman"/>
              </a:rPr>
              <a:t>(100% от пла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DD9-073A-4134-AC1D-74DEC91F6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8000" y="1125360"/>
            <a:ext cx="896472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11 месяцев 2007 года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на денежные выплаты специалистам первичного звена получено более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415 млн. рублей </a:t>
            </a:r>
            <a:r>
              <a:rPr b="1" lang="en-US" sz="2700" spc="-1" strike="noStrike">
                <a:solidFill>
                  <a:srgbClr val="0066ff"/>
                </a:solidFill>
                <a:latin typeface="Times New Roman"/>
              </a:rPr>
              <a:t>(81% от прогноза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Госдума приняла в первом чтении и в целом изменения в Федеральный закон «О бюджете Федерального фонда ОМС на 2008 год и до 2010 года», согласно которому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дополнительные денежные выплаты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специалистам  первичного звена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будут включаться в расчет среднего заработка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при предоставлении им отпуска, при направлении в служебные командировки, выплате пособий при временной нетрудоспособности и при направлении на повышение квалификации с отрывом от работ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5920"/>
            <a:ext cx="9144000" cy="1009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Денежные выплаты специалистам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первичного звена здравоохра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D10-96E8-40DA-BBF4-446B0E51CA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8000" y="142704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За 2006 - 11 месяцев 2007 года в результате подготовки по государственному заданию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840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врачей первичного звена и выплат </a:t>
            </a:r>
            <a:r>
              <a:rPr b="1" lang="en-US" sz="2700" spc="-1" strike="noStrike">
                <a:solidFill>
                  <a:srgbClr val="ff3300"/>
                </a:solidFill>
                <a:latin typeface="Times New Roman"/>
              </a:rPr>
              <a:t>1 млрд. 165 млн. рублей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участковым терапевтам, педиатрам, ВОП (5 400), медицинскому персоналу ФАПов (2 389) и учреждений СМП (2 258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специалистов первичного звена стало на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1,5 тысяч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больше, их число выросло на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треть,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а ВОП – в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раз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укомплектованность фельдшерами ФАПов составила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99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укомплектованность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специалистами учреждений и отделений СМП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достигла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94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5920"/>
            <a:ext cx="9144000" cy="1081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Денежные выплаты специалистам первичного звена здравоохранения, медицинскому персоналу ФАПов, СМ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F40-C257-4887-801F-4669ABFA68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9036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снащение диагностическим оборуд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07920"/>
            <a:ext cx="914400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6 год (261 единица)                         2007 год (175 едини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10        лабораторные комплекты             2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2                    колоноскопы                         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8                    маммографы                          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0              фетальные мониторы                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0                      гистероскопы                       1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34                фиброгастроскопы                   3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20                  рентгенаппараты                   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21                    флюорографы                        1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6                   УЗИ - аппараты                      3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90                   ЭКГ - аппараты                     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5013360"/>
            <a:ext cx="65530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 2006 - 11 месяцев 2007 года поступило и освоено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3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единица диагностического оборудования на сумму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25 млн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5920"/>
            <a:ext cx="9144000" cy="792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Оснащение диагностическим оборудова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55640" y="1557000"/>
            <a:ext cx="0" cy="1584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17080" y="3357720"/>
            <a:ext cx="0" cy="15840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80" y="5013360"/>
            <a:ext cx="219528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53D-BEFA-4354-895E-9490E8BD8E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Увеличение числа диагностического оборудования</a:t>
            </a:r>
            <a:br>
              <a:rPr sz="2600"/>
            </a:b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поликлиниках республики с получением</a:t>
            </a:r>
            <a:br>
              <a:rPr sz="2600"/>
            </a:b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их по проекту «Здоровье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DEB-BCE5-4E52-934B-3B77BD976C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снащение диагностическим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454040"/>
            <a:ext cx="900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17 декабря 2007 года поступило и введено в эксплуатацию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70 едини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97% от плана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22 млн. рубле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(99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5308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тся поступление по проекту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единиц оборудования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гистероскоп и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электрокардиографа, сертифицированный персонал для их освоения име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4D2-A7F3-4E26-AB2C-33EE861D97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59:09Z</dcterms:created>
  <dc:creator>bulgakov</dc:creator>
  <dc:description/>
  <dc:language>en-US</dc:language>
  <cp:lastModifiedBy>Batirshin</cp:lastModifiedBy>
  <dcterms:modified xsi:type="dcterms:W3CDTF">2007-12-19T13:07:36Z</dcterms:modified>
  <cp:revision>336</cp:revision>
  <dc:subject/>
  <dc:title>Слайд 1</dc:title>
</cp:coreProperties>
</file>